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D9A-505B-42EB-B587-215C8CD6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E21-C510-4C53-B20C-B897305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3AA-0B0C-48A5-B5C8-6B126245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98A-CE36-4C04-A6F7-2D000A59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DC4-F8FE-4577-8DC9-E1A5433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1EF-6286-46C5-8B6B-4E64318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D57-6627-42FC-B381-28AAB9F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44E-1478-4F40-8AA3-44400B2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F8F-0CDF-4998-943D-9195769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9B8-1BC9-4027-B011-A26F04D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012-9EA2-4FC4-905D-E3FF402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883-22A4-4575-BDFF-F621192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85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803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95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3FB70DC5-81E2-4448-855F-9EDDD0F5BBC9}" type="slidenum">
              <a:rPr b="0" lang="fa-I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192240"/>
            <a:ext cx="8991720" cy="13824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Titr"/>
              </a:rPr>
              <a:t>همایش کشوری جایگاه و اقتضائات در تربیت معلم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2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 اسفند ماه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39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43160" y="2828520"/>
            <a:ext cx="4319640" cy="37148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128160" rIns="128160" tIns="64080" bIns="64080" anchor="t">
            <a:no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چکیده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9880" y="1685880"/>
            <a:ext cx="8963280" cy="1071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عنوان مقال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اسامی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آدرس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943520" y="6597720"/>
            <a:ext cx="4319640" cy="3446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943520" y="10115640"/>
            <a:ext cx="4319640" cy="22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9880" y="2828880"/>
            <a:ext cx="4572000" cy="72151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299880" y="10115640"/>
            <a:ext cx="4572000" cy="2286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نابع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:\Users\news\Desktop\logo copy1.PNG"/>
          <p:cNvPicPr/>
          <p:nvPr/>
        </p:nvPicPr>
        <p:blipFill>
          <a:blip r:embed="rId1"/>
          <a:stretch/>
        </p:blipFill>
        <p:spPr>
          <a:xfrm>
            <a:off x="407880" y="198360"/>
            <a:ext cx="129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news</cp:lastModifiedBy>
  <dcterms:modified xsi:type="dcterms:W3CDTF">2015-02-18T21:05:05Z</dcterms:modified>
  <cp:revision>53</cp:revision>
  <dc:subject/>
  <dc:title>فورمت ارائه پوستر جهت همایش ملی</dc:title>
</cp:coreProperties>
</file>